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BEB30A-B4B2-4439-B58B-6A70203B89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982671-140C-43B0-9527-97EA3BAF35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549401-F07C-47C5-9DCD-CED728EAC4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38B94A-3862-4C51-A12D-52A09EBEB2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70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0D0121-5ECF-4680-8610-D55C753094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371550-7443-449F-9B61-135ACEC52E3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4CE206-FD56-4326-8C11-211C31F71B4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B3A579-77F9-4BCB-9932-9C9EBE74F5E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66E1CD-FC52-473A-BACD-D494877EC15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F13EA6-66DC-479E-AAD3-4D4DB267CDF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EA5C8B-94C2-429D-AB9A-2231679C6C1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70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FC2218-4B2A-4069-B622-1ECFD8AC0D8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F7CDC7-26C1-4AA4-BEAE-068C0E7A6F7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F9D21C-9CCC-4B80-BFDE-BF049FC022B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2B8800-FE02-4F2D-AA1D-9CFE46D001A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F18F45-2C30-44E1-8A48-21AF20B7D78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B95A65-A4FF-471D-A6E9-534A16984C8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F849CD-AA2C-43DB-9DD7-AC9BECB5E1A6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EA9C8-C7C7-4DA0-A729-6B0DF6E37FB8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03D12-552C-4577-BDD2-AF64EA443F98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E2D21-A4B7-4BD2-BBE0-BBE7323A81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73F53C-2CD8-4B71-AE4B-0530051F0FE6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1816E-BA66-488C-9159-66687A113816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CD8B5-1048-4C91-9E4E-1D84C7DBE4E3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70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0F4D6-72DC-4032-8074-CE4FE5EF3E4F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3EA5A-BB27-4B77-BFA3-ABF38AEA0D03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44E97-5555-4F75-97D0-412B6EFF722A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DDF21-7357-4BB2-AF1F-3A249D6E2BD8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D518C-1A78-4D9A-AFC1-0C48C279BDDD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DAA04-5112-474B-9A0C-2A289AFFBC35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D6224-DBAF-4603-9627-7B84BC2DB6F4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2A066C-8F3D-4405-8D3A-1446D5C168C3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70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70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750C2D-EE92-470B-AEFC-5EDDC227A91B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D792DE-62D7-4A4E-BE3F-9127B5550CCB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2B2201-4CC0-4303-BF25-1593F71B41C1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A5902D-4172-4C32-9CDF-0A05874A7C77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389C0B-C74E-4F35-85E9-2105E1415F47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9C7792-7ECA-4331-A67F-3F61F7803469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70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78F0D6-EFCB-4085-97EE-338CED5A0A33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E4D364-C8D7-434C-BB83-EA13E623E482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9F85E3-9C7C-4164-A981-03130B69A3B4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C030D5-CAE0-44F1-81B2-A33F8EF617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3590E2-9050-48E8-961C-9D2087862489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36C1A7-C30E-4520-BA5B-3D56C93121C4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D660D4-2F87-4C9A-8A1B-2360BF5E46FF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83390C-8AE1-422F-86F9-F2005EEC6F73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57C5C3-A560-404F-99BD-DE4AFD4102CE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BFCF98-4048-45E1-A201-EA7FC0E03AEA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5A5D9D-07FD-4D8E-B324-1D77C28D43E0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9ADFC4-FD92-42AD-8FD4-23F4FAA34FFE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3F0A87-883A-4009-AFF9-6D66F5C40D33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70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507F20-DDFC-4582-92B7-7D0CEF61B401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92CC5F-0A40-46BE-B1A2-FC3ED0C316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D89049-6FBA-4036-BBC9-54BA53A19E22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35F11B-406D-4716-9B41-15C0F19F7D00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F51422-8AC7-404C-BECA-292DDCE31775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8390C3-C296-4F79-9502-CF2B5C8D68EB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4779CD-2A5E-4674-A3D3-0622D2CB1189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BBC47E-C56C-4537-94D9-72925036E2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153AFE-6B00-4B9B-9299-38D2D3AB1F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7960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7956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3676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9396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9396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9396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461360" y="6244920"/>
            <a:ext cx="3110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D23F9-4C35-46BC-8257-CA44F46BA49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819160" y="380520"/>
            <a:ext cx="609588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 Bold"/>
              </a:rPr>
              <a:t>Click to edit the title text format</a:t>
            </a:r>
            <a:endParaRPr b="0" lang="en-US" sz="4400" spc="-1" strike="noStrike">
              <a:solidFill>
                <a:srgbClr val="0033cc"/>
              </a:solidFill>
              <a:latin typeface="Arial Bold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2819160" y="1980720"/>
            <a:ext cx="609588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marL="384120" indent="-342720">
              <a:spcBef>
                <a:spcPts val="601"/>
              </a:spcBef>
              <a:buClr>
                <a:srgbClr val="cc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  <a:p>
            <a:pPr lvl="1" marL="581040" indent="-285840">
              <a:spcBef>
                <a:spcPts val="601"/>
              </a:spcBef>
              <a:buClr>
                <a:srgbClr val="0033cc"/>
              </a:buClr>
              <a:buSzPct val="62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  <a:p>
            <a:pPr lvl="2" marL="981000" indent="-228600">
              <a:spcBef>
                <a:spcPts val="601"/>
              </a:spcBef>
              <a:buClr>
                <a:srgbClr val="cc9900"/>
              </a:buClr>
              <a:buSzPct val="62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  <a:p>
            <a:pPr lvl="3" marL="1438200" indent="-228600"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  <a:p>
            <a:pPr lvl="4" marL="1895400" indent="-228600">
              <a:spcBef>
                <a:spcPts val="601"/>
              </a:spcBef>
              <a:buClr>
                <a:srgbClr val="cc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  <a:p>
            <a:pPr lvl="5" marL="1895400" indent="-228600">
              <a:spcBef>
                <a:spcPts val="601"/>
              </a:spcBef>
              <a:buClr>
                <a:srgbClr val="00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  <a:p>
            <a:pPr lvl="6" marL="1895400" indent="-228600">
              <a:spcBef>
                <a:spcPts val="601"/>
              </a:spcBef>
              <a:buClr>
                <a:srgbClr val="00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3828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sldNum" idx="2"/>
          </p:nvPr>
        </p:nvSpPr>
        <p:spPr>
          <a:xfrm>
            <a:off x="7462800" y="6244920"/>
            <a:ext cx="3110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61CBE-C592-4647-B984-B4F0172EAAA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Line 1"/>
          <p:cNvSpPr/>
          <p:nvPr/>
        </p:nvSpPr>
        <p:spPr>
          <a:xfrm>
            <a:off x="0" y="1708200"/>
            <a:ext cx="9147240" cy="1440"/>
          </a:xfrm>
          <a:prstGeom prst="line">
            <a:avLst/>
          </a:prstGeom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2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1" y="21600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819160" y="380520"/>
            <a:ext cx="609588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 Bold"/>
              </a:rPr>
              <a:t>Click to edit the title text format</a:t>
            </a:r>
            <a:endParaRPr b="0" lang="en-US" sz="4400" spc="-1" strike="noStrike">
              <a:solidFill>
                <a:srgbClr val="0033cc"/>
              </a:solidFill>
              <a:latin typeface="Arial Bol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2819160" y="1980720"/>
            <a:ext cx="609588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marL="384120" indent="-342720">
              <a:spcBef>
                <a:spcPts val="601"/>
              </a:spcBef>
              <a:buClr>
                <a:srgbClr val="cc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  <a:p>
            <a:pPr lvl="1" marL="581040" indent="-285840">
              <a:spcBef>
                <a:spcPts val="601"/>
              </a:spcBef>
              <a:buClr>
                <a:srgbClr val="0033cc"/>
              </a:buClr>
              <a:buSzPct val="62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  <a:p>
            <a:pPr lvl="2" marL="981000" indent="-228600">
              <a:spcBef>
                <a:spcPts val="601"/>
              </a:spcBef>
              <a:buClr>
                <a:srgbClr val="cc9900"/>
              </a:buClr>
              <a:buSzPct val="62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  <a:p>
            <a:pPr lvl="3" marL="1438200" indent="-228600"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  <a:p>
            <a:pPr lvl="4" marL="1895400" indent="-228600">
              <a:spcBef>
                <a:spcPts val="601"/>
              </a:spcBef>
              <a:buClr>
                <a:srgbClr val="cc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  <a:p>
            <a:pPr lvl="5" marL="1895400" indent="-228600">
              <a:spcBef>
                <a:spcPts val="601"/>
              </a:spcBef>
              <a:buClr>
                <a:srgbClr val="00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  <a:p>
            <a:pPr lvl="6" marL="1895400" indent="-228600">
              <a:spcBef>
                <a:spcPts val="601"/>
              </a:spcBef>
              <a:buClr>
                <a:srgbClr val="00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sldNum" idx="3"/>
          </p:nvPr>
        </p:nvSpPr>
        <p:spPr>
          <a:xfrm>
            <a:off x="7803720" y="6324120"/>
            <a:ext cx="311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DE542-07AB-4540-BD43-998DB1C53AEC}" type="slidenum">
              <a:rPr b="0" lang="en-US" sz="1400" spc="-1" strike="noStrike">
                <a:solidFill>
                  <a:srgbClr val="0066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819160" y="380520"/>
            <a:ext cx="609588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 Bold"/>
              </a:rPr>
              <a:t>Click to edit the title text format</a:t>
            </a:r>
            <a:endParaRPr b="0" lang="en-US" sz="4400" spc="-1" strike="noStrike">
              <a:solidFill>
                <a:srgbClr val="0033cc"/>
              </a:solidFill>
              <a:latin typeface="Arial Bol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2819160" y="1980720"/>
            <a:ext cx="609588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marL="384120" indent="-342720">
              <a:spcBef>
                <a:spcPts val="601"/>
              </a:spcBef>
              <a:buClr>
                <a:srgbClr val="cc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  <a:p>
            <a:pPr lvl="1" marL="581040" indent="-285840">
              <a:spcBef>
                <a:spcPts val="601"/>
              </a:spcBef>
              <a:buClr>
                <a:srgbClr val="0033cc"/>
              </a:buClr>
              <a:buSzPct val="62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  <a:p>
            <a:pPr lvl="2" marL="981000" indent="-228600">
              <a:spcBef>
                <a:spcPts val="601"/>
              </a:spcBef>
              <a:buClr>
                <a:srgbClr val="cc9900"/>
              </a:buClr>
              <a:buSzPct val="62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  <a:p>
            <a:pPr lvl="3" marL="1438200" indent="-228600"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  <a:p>
            <a:pPr lvl="4" marL="1895400" indent="-228600">
              <a:spcBef>
                <a:spcPts val="601"/>
              </a:spcBef>
              <a:buClr>
                <a:srgbClr val="cc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  <a:p>
            <a:pPr lvl="5" marL="1895400" indent="-228600">
              <a:spcBef>
                <a:spcPts val="601"/>
              </a:spcBef>
              <a:buClr>
                <a:srgbClr val="00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  <a:p>
            <a:pPr lvl="6" marL="1895400" indent="-228600">
              <a:spcBef>
                <a:spcPts val="601"/>
              </a:spcBef>
              <a:buClr>
                <a:srgbClr val="00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57960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2" marL="97956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3" marL="143676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4" marL="189396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5" marL="189396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6" marL="189396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 type="sldNum" idx="4"/>
          </p:nvPr>
        </p:nvSpPr>
        <p:spPr>
          <a:xfrm>
            <a:off x="7462800" y="6392520"/>
            <a:ext cx="30816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Lucida Grande"/>
                <a:ea typeface="Lucida Gran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0103C-C4AE-4121-87C1-4418736B7609}" type="slidenum">
              <a:rPr b="0" lang="en-US" sz="1200" spc="-1" strike="noStrike">
                <a:solidFill>
                  <a:srgbClr val="898989"/>
                </a:solidFill>
                <a:latin typeface="Lucida Grande"/>
                <a:ea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819160" y="380520"/>
            <a:ext cx="609588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 Bold"/>
              </a:rPr>
              <a:t>Click to edit the title text format</a:t>
            </a:r>
            <a:endParaRPr b="0" lang="en-US" sz="4400" spc="-1" strike="noStrike">
              <a:solidFill>
                <a:srgbClr val="0033cc"/>
              </a:solidFill>
              <a:latin typeface="Arial Bold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2819160" y="1980720"/>
            <a:ext cx="609588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marL="384120" indent="-342720">
              <a:spcBef>
                <a:spcPts val="601"/>
              </a:spcBef>
              <a:buClr>
                <a:srgbClr val="cc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  <a:p>
            <a:pPr lvl="1" marL="581040" indent="-285840">
              <a:spcBef>
                <a:spcPts val="601"/>
              </a:spcBef>
              <a:buClr>
                <a:srgbClr val="0033cc"/>
              </a:buClr>
              <a:buSzPct val="62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  <a:p>
            <a:pPr lvl="2" marL="981000" indent="-228600">
              <a:spcBef>
                <a:spcPts val="601"/>
              </a:spcBef>
              <a:buClr>
                <a:srgbClr val="cc9900"/>
              </a:buClr>
              <a:buSzPct val="62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  <a:p>
            <a:pPr lvl="3" marL="1438200" indent="-228600"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  <a:p>
            <a:pPr lvl="4" marL="1895400" indent="-228600">
              <a:spcBef>
                <a:spcPts val="601"/>
              </a:spcBef>
              <a:buClr>
                <a:srgbClr val="cc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  <a:p>
            <a:pPr lvl="5" marL="1895400" indent="-228600">
              <a:spcBef>
                <a:spcPts val="601"/>
              </a:spcBef>
              <a:buClr>
                <a:srgbClr val="00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  <a:p>
            <a:pPr lvl="6" marL="1895400" indent="-228600">
              <a:spcBef>
                <a:spcPts val="601"/>
              </a:spcBef>
              <a:buClr>
                <a:srgbClr val="00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sldNum" idx="5"/>
          </p:nvPr>
        </p:nvSpPr>
        <p:spPr>
          <a:xfrm>
            <a:off x="7803720" y="6324120"/>
            <a:ext cx="311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2E54C-2801-45F1-A85D-704835FBF0A8}" type="slidenum">
              <a:rPr b="0" lang="en-US" sz="1400" spc="-1" strike="noStrike">
                <a:solidFill>
                  <a:srgbClr val="0066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ll Ringer: 9-1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the seven cont and four oce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Slide Number Placeholder 3"/>
          <p:cNvSpPr/>
          <p:nvPr/>
        </p:nvSpPr>
        <p:spPr>
          <a:xfrm>
            <a:off x="7461360" y="6245280"/>
            <a:ext cx="3110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BF12F-5F6E-4079-95CB-8DFE63C0574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28240" y="533520"/>
            <a:ext cx="6095880" cy="1295280"/>
          </a:xfrm>
          <a:prstGeom prst="rect">
            <a:avLst/>
          </a:prstGeom>
          <a:noFill/>
          <a:ln w="0">
            <a:noFill/>
          </a:ln>
        </p:spPr>
        <p:txBody>
          <a:bodyPr lIns="38160" rIns="-6480" tIns="38160" bIns="38160" anchor="ctr">
            <a:noAutofit/>
          </a:bodyPr>
          <a:p>
            <a:pPr marL="1584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 Bold"/>
              </a:rPr>
              <a:t>Stylus  </a:t>
            </a:r>
            <a:endParaRPr b="0" lang="en-US" sz="4400" spc="-1" strike="noStrike">
              <a:solidFill>
                <a:srgbClr val="0033cc"/>
              </a:solidFill>
              <a:latin typeface="Arial Bold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33160" y="1828800"/>
            <a:ext cx="8001000" cy="5029200"/>
          </a:xfrm>
          <a:prstGeom prst="rect">
            <a:avLst/>
          </a:prstGeom>
          <a:noFill/>
          <a:ln w="0">
            <a:noFill/>
          </a:ln>
        </p:spPr>
        <p:txBody>
          <a:bodyPr lIns="38160" rIns="-6480" tIns="38160" bIns="38160" anchor="t">
            <a:normAutofit/>
          </a:bodyPr>
          <a:p>
            <a:pPr marL="3589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Bold"/>
                <a:ea typeface="Arial Bold"/>
              </a:rPr>
              <a:t>Wedge-shape instrument made out of reed--ancient pencil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12" name="Line 3"/>
          <p:cNvSpPr/>
          <p:nvPr/>
        </p:nvSpPr>
        <p:spPr>
          <a:xfrm>
            <a:off x="76320" y="1523880"/>
            <a:ext cx="8229600" cy="1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Picture 4" descr=""/>
          <p:cNvPicPr/>
          <p:nvPr/>
        </p:nvPicPr>
        <p:blipFill>
          <a:blip r:embed="rId1"/>
          <a:stretch/>
        </p:blipFill>
        <p:spPr>
          <a:xfrm>
            <a:off x="2286000" y="289548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5" descr=""/>
          <p:cNvPicPr/>
          <p:nvPr/>
        </p:nvPicPr>
        <p:blipFill>
          <a:blip r:embed="rId2"/>
          <a:stretch/>
        </p:blipFill>
        <p:spPr>
          <a:xfrm>
            <a:off x="5029200" y="2666880"/>
            <a:ext cx="2247840" cy="20811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AutoShape 1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1" y="21600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257120" y="-360"/>
            <a:ext cx="6095880" cy="1600200"/>
          </a:xfrm>
          <a:prstGeom prst="rect">
            <a:avLst/>
          </a:prstGeom>
          <a:noFill/>
          <a:ln w="0">
            <a:noFill/>
          </a:ln>
        </p:spPr>
        <p:txBody>
          <a:bodyPr lIns="38160" rIns="-6480" tIns="38160" bIns="38160" anchor="ctr">
            <a:noAutofit/>
          </a:bodyPr>
          <a:p>
            <a:pPr marL="14400"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ord Splash…create on left side of Interactive Notebook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7" name=""/>
          <p:cNvGraphicFramePr/>
          <p:nvPr/>
        </p:nvGraphicFramePr>
        <p:xfrm>
          <a:off x="990720" y="1523880"/>
          <a:ext cx="6627600" cy="4530960"/>
        </p:xfrm>
        <a:graphic>
          <a:graphicData uri="http://schemas.openxmlformats.org/drawingml/2006/table">
            <a:tbl>
              <a:tblPr/>
              <a:tblGrid>
                <a:gridCol w="2743200"/>
                <a:gridCol w="3884400"/>
              </a:tblGrid>
              <a:tr h="226548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39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Write the word you are defining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1368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1368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39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Define the word given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1368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noFill/>
                  </a:tcPr>
                </a:tc>
              </a:tr>
              <a:tr h="226548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39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Draw a picture for the wor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1368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1368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39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Write a sentence using the word given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13680">
                      <a:solidFill>
                        <a:srgbClr val="0066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G 1: Word Spla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g 2: Vocab c-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Slide Number Placeholder 3"/>
          <p:cNvSpPr/>
          <p:nvPr/>
        </p:nvSpPr>
        <p:spPr>
          <a:xfrm>
            <a:off x="7461360" y="6245280"/>
            <a:ext cx="3110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7CBCE-DCAC-452F-A1C7-4510527773B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dcc"/>
                </a:solidFill>
                <a:latin typeface="Lucida Grande"/>
                <a:ea typeface="Lucida Grande"/>
              </a:rPr>
              <a:t>Foss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63904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t">
            <a:normAutofit/>
          </a:bodyPr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90b00"/>
                </a:solidFill>
                <a:latin typeface="Lucida Grande"/>
                <a:ea typeface="Lucida Grande"/>
              </a:rPr>
              <a:t>impression from a past 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Picture 3" descr=""/>
          <p:cNvPicPr/>
          <p:nvPr/>
        </p:nvPicPr>
        <p:blipFill>
          <a:blip r:embed="rId1"/>
          <a:stretch/>
        </p:blipFill>
        <p:spPr>
          <a:xfrm>
            <a:off x="0" y="2666880"/>
            <a:ext cx="4457880" cy="334332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4" descr=""/>
          <p:cNvPicPr/>
          <p:nvPr/>
        </p:nvPicPr>
        <p:blipFill>
          <a:blip r:embed="rId2"/>
          <a:stretch/>
        </p:blipFill>
        <p:spPr>
          <a:xfrm>
            <a:off x="4419720" y="2971800"/>
            <a:ext cx="4495680" cy="299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Artifa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63904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t">
            <a:normAutofit/>
          </a:bodyPr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90b00"/>
                </a:solidFill>
                <a:latin typeface="Lucida Grande"/>
                <a:ea typeface="Lucida Grande"/>
              </a:rPr>
              <a:t>items left behind by early people  ex:tools, pottery and weap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Picture 3" descr=""/>
          <p:cNvPicPr/>
          <p:nvPr/>
        </p:nvPicPr>
        <p:blipFill>
          <a:blip r:embed="rId1"/>
          <a:srcRect l="0" t="0" r="0" b="12503"/>
          <a:stretch/>
        </p:blipFill>
        <p:spPr>
          <a:xfrm>
            <a:off x="533520" y="2438280"/>
            <a:ext cx="3695760" cy="320040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4" descr=""/>
          <p:cNvPicPr/>
          <p:nvPr/>
        </p:nvPicPr>
        <p:blipFill>
          <a:blip r:embed="rId2"/>
          <a:stretch/>
        </p:blipFill>
        <p:spPr>
          <a:xfrm>
            <a:off x="4800600" y="2362320"/>
            <a:ext cx="3809880" cy="346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67920" y="647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-6480" tIns="38160" bIns="38160" anchor="ctr">
            <a:noAutofit/>
          </a:bodyPr>
          <a:p>
            <a:pPr marL="1584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 Bold"/>
              </a:rPr>
              <a:t>Mesopotamia</a:t>
            </a:r>
            <a:endParaRPr b="0" lang="en-US" sz="4400" spc="-1" strike="noStrike">
              <a:solidFill>
                <a:srgbClr val="0033cc"/>
              </a:solidFill>
              <a:latin typeface="Arial Bold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33160" y="1523880"/>
            <a:ext cx="7670520" cy="4114800"/>
          </a:xfrm>
          <a:prstGeom prst="rect">
            <a:avLst/>
          </a:prstGeom>
          <a:noFill/>
          <a:ln w="0">
            <a:noFill/>
          </a:ln>
        </p:spPr>
        <p:txBody>
          <a:bodyPr lIns="38160" rIns="-6480" tIns="38160" bIns="38160" anchor="t">
            <a:normAutofit/>
          </a:bodyPr>
          <a:p>
            <a:pPr marL="3589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Bold"/>
                <a:ea typeface="Arial Bold"/>
              </a:rPr>
              <a:t>land between the rivers (tigris and euphrates)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289" name="Picture 3" descr=""/>
          <p:cNvPicPr/>
          <p:nvPr/>
        </p:nvPicPr>
        <p:blipFill>
          <a:blip r:embed="rId1"/>
          <a:stretch/>
        </p:blipFill>
        <p:spPr>
          <a:xfrm>
            <a:off x="1712880" y="2844720"/>
            <a:ext cx="5106960" cy="3392640"/>
          </a:xfrm>
          <a:prstGeom prst="rect">
            <a:avLst/>
          </a:prstGeom>
          <a:ln w="0">
            <a:noFill/>
          </a:ln>
        </p:spPr>
      </p:pic>
      <p:sp>
        <p:nvSpPr>
          <p:cNvPr id="290" name="Line 4"/>
          <p:cNvSpPr/>
          <p:nvPr/>
        </p:nvSpPr>
        <p:spPr>
          <a:xfrm>
            <a:off x="457200" y="1523880"/>
            <a:ext cx="8229600" cy="1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2819160" y="533520"/>
            <a:ext cx="6095880" cy="1295280"/>
          </a:xfrm>
          <a:prstGeom prst="rect">
            <a:avLst/>
          </a:prstGeom>
          <a:noFill/>
          <a:ln w="0">
            <a:noFill/>
          </a:ln>
        </p:spPr>
        <p:txBody>
          <a:bodyPr lIns="38160" rIns="-6480" tIns="38160" bIns="38160" anchor="ctr">
            <a:noAutofit/>
          </a:bodyPr>
          <a:p>
            <a:pPr marL="1584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 Bold"/>
              </a:rPr>
              <a:t>levees</a:t>
            </a:r>
            <a:endParaRPr b="0" lang="en-US" sz="4400" spc="-1" strike="noStrike">
              <a:solidFill>
                <a:srgbClr val="0033cc"/>
              </a:solidFill>
              <a:latin typeface="Arial Bold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228600" y="18288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38160" rIns="-6480" tIns="38160" bIns="38160" anchor="t">
            <a:normAutofit/>
          </a:bodyPr>
          <a:p>
            <a:pPr marL="3589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Bold"/>
                <a:ea typeface="Arial Bold"/>
              </a:rPr>
              <a:t>raised areas of the earth to hold back flood waters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93" name="Line 3"/>
          <p:cNvSpPr/>
          <p:nvPr/>
        </p:nvSpPr>
        <p:spPr>
          <a:xfrm>
            <a:off x="457200" y="1676520"/>
            <a:ext cx="8229600" cy="144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Picture 4" descr=""/>
          <p:cNvPicPr/>
          <p:nvPr/>
        </p:nvPicPr>
        <p:blipFill>
          <a:blip r:embed="rId1"/>
          <a:stretch/>
        </p:blipFill>
        <p:spPr>
          <a:xfrm>
            <a:off x="1422360" y="2870280"/>
            <a:ext cx="2971800" cy="222876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5" descr=""/>
          <p:cNvPicPr/>
          <p:nvPr/>
        </p:nvPicPr>
        <p:blipFill>
          <a:blip r:embed="rId2"/>
          <a:stretch/>
        </p:blipFill>
        <p:spPr>
          <a:xfrm>
            <a:off x="4508640" y="2590920"/>
            <a:ext cx="3251160" cy="24382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711000" y="380520"/>
            <a:ext cx="8204040" cy="1600200"/>
          </a:xfrm>
          <a:prstGeom prst="rect">
            <a:avLst/>
          </a:prstGeom>
          <a:noFill/>
          <a:ln w="0">
            <a:noFill/>
          </a:ln>
        </p:spPr>
        <p:txBody>
          <a:bodyPr lIns="38160" rIns="-6480" tIns="38160" bIns="38160" anchor="ctr">
            <a:noAutofit/>
          </a:bodyPr>
          <a:p>
            <a:pPr marL="1584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 Bold"/>
              </a:rPr>
              <a:t>irrigate</a:t>
            </a:r>
            <a:endParaRPr b="0" lang="en-US" sz="4400" spc="-1" strike="noStrike">
              <a:solidFill>
                <a:srgbClr val="0033cc"/>
              </a:solidFill>
              <a:latin typeface="Arial Bold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71320" y="1980720"/>
            <a:ext cx="8343720" cy="4876920"/>
          </a:xfrm>
          <a:prstGeom prst="rect">
            <a:avLst/>
          </a:prstGeom>
          <a:noFill/>
          <a:ln w="0">
            <a:noFill/>
          </a:ln>
        </p:spPr>
        <p:txBody>
          <a:bodyPr lIns="38160" rIns="-6480" tIns="38160" bIns="38160" anchor="t">
            <a:normAutofit/>
          </a:bodyPr>
          <a:p>
            <a:pPr marL="3589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Bold"/>
                <a:ea typeface="Arial Bold"/>
              </a:rPr>
              <a:t>system to water crops using canals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98" name="Line 3"/>
          <p:cNvSpPr/>
          <p:nvPr/>
        </p:nvSpPr>
        <p:spPr>
          <a:xfrm>
            <a:off x="457200" y="1676520"/>
            <a:ext cx="8229600" cy="144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Picture 4" descr=""/>
          <p:cNvPicPr/>
          <p:nvPr/>
        </p:nvPicPr>
        <p:blipFill>
          <a:blip r:embed="rId1"/>
          <a:stretch/>
        </p:blipFill>
        <p:spPr>
          <a:xfrm>
            <a:off x="3352680" y="2901960"/>
            <a:ext cx="2362320" cy="18032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609624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-6480" tIns="38160" bIns="38160" anchor="ctr">
            <a:noAutofit/>
          </a:bodyPr>
          <a:p>
            <a:pPr marL="1584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 Bold"/>
              </a:rPr>
              <a:t>City-State</a:t>
            </a:r>
            <a:endParaRPr b="0" lang="en-US" sz="4400" spc="-1" strike="noStrike">
              <a:solidFill>
                <a:srgbClr val="0033cc"/>
              </a:solidFill>
              <a:latin typeface="Arial Bold"/>
            </a:endParaRPr>
          </a:p>
        </p:txBody>
      </p:sp>
      <p:sp>
        <p:nvSpPr>
          <p:cNvPr id="301" name="Rectangle 2"/>
          <p:cNvSpPr/>
          <p:nvPr/>
        </p:nvSpPr>
        <p:spPr>
          <a:xfrm>
            <a:off x="533520" y="1676520"/>
            <a:ext cx="8204040" cy="7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Bold"/>
                <a:ea typeface="Arial Bold"/>
              </a:rPr>
              <a:t>A Self governing city and the lands surrounding 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Line 3"/>
          <p:cNvSpPr/>
          <p:nvPr/>
        </p:nvSpPr>
        <p:spPr>
          <a:xfrm>
            <a:off x="457200" y="1676520"/>
            <a:ext cx="8229600" cy="144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Picture 4" descr=""/>
          <p:cNvPicPr/>
          <p:nvPr/>
        </p:nvPicPr>
        <p:blipFill>
          <a:blip r:embed="rId1"/>
          <a:stretch/>
        </p:blipFill>
        <p:spPr>
          <a:xfrm>
            <a:off x="685800" y="2590920"/>
            <a:ext cx="2328840" cy="274320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5" descr=""/>
          <p:cNvPicPr/>
          <p:nvPr/>
        </p:nvPicPr>
        <p:blipFill>
          <a:blip r:embed="rId2"/>
          <a:stretch/>
        </p:blipFill>
        <p:spPr>
          <a:xfrm>
            <a:off x="4114800" y="2438280"/>
            <a:ext cx="3886200" cy="27370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228240" y="9140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-6480" tIns="38160" bIns="38160" anchor="ctr">
            <a:noAutofit/>
          </a:bodyPr>
          <a:p>
            <a:pPr marL="1584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 Bold"/>
              </a:rPr>
              <a:t>Cuneiform</a:t>
            </a:r>
            <a:endParaRPr b="0" lang="en-US" sz="4400" spc="-1" strike="noStrike">
              <a:solidFill>
                <a:srgbClr val="0033cc"/>
              </a:solidFill>
              <a:latin typeface="Arial Bold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75248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38160" rIns="-6480" tIns="38160" bIns="38160" anchor="t">
            <a:normAutofit/>
          </a:bodyPr>
          <a:p>
            <a:pPr marL="3589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Bold"/>
                <a:ea typeface="Arial Bold"/>
              </a:rPr>
              <a:t>World’s first known writing system--based on lines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07" name="Line 3"/>
          <p:cNvSpPr/>
          <p:nvPr/>
        </p:nvSpPr>
        <p:spPr>
          <a:xfrm>
            <a:off x="304920" y="1676520"/>
            <a:ext cx="8229600" cy="144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Picture 4" descr=""/>
          <p:cNvPicPr/>
          <p:nvPr/>
        </p:nvPicPr>
        <p:blipFill>
          <a:blip r:embed="rId1"/>
          <a:stretch/>
        </p:blipFill>
        <p:spPr>
          <a:xfrm>
            <a:off x="647640" y="2882880"/>
            <a:ext cx="2590920" cy="249084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5" descr=""/>
          <p:cNvPicPr/>
          <p:nvPr/>
        </p:nvPicPr>
        <p:blipFill>
          <a:blip r:embed="rId2"/>
          <a:stretch/>
        </p:blipFill>
        <p:spPr>
          <a:xfrm>
            <a:off x="3598920" y="2870280"/>
            <a:ext cx="4935600" cy="25398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York</dc:creator>
  <dc:description/>
  <cp:keywords/>
  <dc:language>en-US</dc:language>
  <cp:lastModifiedBy>TylerDaughtry</cp:lastModifiedBy>
  <dcterms:modified xsi:type="dcterms:W3CDTF">2013-09-17T16:50:43Z</dcterms:modified>
  <cp:revision>5</cp:revision>
  <dc:subject/>
  <dc:title>Slide 1</dc:title>
</cp:coreProperties>
</file>